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move the slide</a:t>
            </a:r>
            <a:endParaRPr b="1" lang="en-US" sz="3900" spc="-1" strike="noStrike">
              <a:solidFill>
                <a:srgbClr val="ffffff"/>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5225-E29C-4A81-94B4-2B1C32CA6E3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20, 200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orde supersonic airplane is 20 cm longer when in flight.  Explain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orde supersonic airplane is 20 cm longer when in flight.  Explain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jet flies, it experiences a huge amount of friction, which heats it up significantly.  This causes thermal expansion, and the plane length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the jet flies, it experiences a huge amount of friction, which heats it up significantly.  This causes thermal expansion, and the plane length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emperature a measur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emperature a measur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kinetic energy of the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verage kinetic energy of the partic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step out of a swimming pool on a hot, dry day, you feel quite chilly.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step out of a swimming pool on a hot, dry day, you feel quite chilly.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will start evaporating in the air.  Evaporation requires energy (heat) and that heat will come from your body.  Since you are losing heat, you will feel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 gas give off or absorb energy when it turns into a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a gas give off or absorb energy when it turns into a so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gives off energy, because it is going from high energy to low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off energy, because it is going from high energy to low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ap a fur coat around a thermometer.  Will its temperature rise?  Explain why or why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old one end of a metal nail against a piece of ice, the end in your hand soon becomes cold.  Does cold flow from the ice to your hand?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m-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 a fur coat around a thermometer.  Will its temperature rise?  Explain why or why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old one end of a metal nail against a piece of ice, the end in your hand soon becomes cold.  Does cold flow from the ice to your hand?  Expl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blowing over hot soup cool the s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es blowing over hot soup cool the s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ooling is a very effective method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ction cooling is a very effective method of 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till room, smoke will sometimes rise only so far, never reaching the ceiling.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still room, smoke will sometimes rise only so far, never reaching the ceiling.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cool cup of water is floated inside of a pot of water that is already boiling, will the water in the cup ever b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cool cup of water is floated inside of a pot of water that is already boiling, will the water in the cup ever bo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the thermometer will not heat up because it is the same temperature as the coat.  There has to be a difference in temperature in order for heat transfer to take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d does not flow.  Heat flows from your hand to the nail to the ice.  Since your hand is losing heat, it feels cold.  HEAT is the only thing that f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cold does not flow.  Heat flows from your hand to the nail to the ice.  Since your hand is losing heat, it feels cold.  HEAT is the only thing that flo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why “firewalkers” can walk safely across a bed of red-hot coals in bare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lain why “firewalkers” can walk safely across a bed of red-hot coals in bare fee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hot cup of tea cools more rapidly than a lukewarm cup of tea, would it be correct to say that a hot cup of tea will cool to room temperature before a lukewarm cup of tea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because as it cools, the rate of heat transfer slows down until it is just as slow as the lukewarm cup of tea.  The only way to make it cool faster is by introducing convection.  (mpemba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45486-1A47-4BDA-9FC8-C8787435A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5D827-FB7E-4E5C-BB9A-3AA50D15C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20BDE-7990-4F1B-B4EB-07116B6EF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F205D-6113-4CD5-AE92-AC266B8D2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B30C5-BD21-43AD-96BF-7B6B12175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308D2-B4F5-44E0-ABAA-C8DFB40FC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DCE7F-30D2-454F-803B-49196C125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7DEB4-796B-4775-A886-88A8C87C7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5D288-B4FA-4CD5-BDB8-65341168B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F1761-39FA-4B61-BD31-8B5425790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9C9F3-D280-4831-91E4-3EA39189B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A6FE3-2B64-4C85-979E-4D8603AA7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4BBBC-85B2-4FE7-8069-F71730ADC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06DFE-557D-4FAF-A064-1B679712E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DF7D1-E7B7-4E4F-BEAB-F812634D0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009EC-28FE-4C1D-BEF0-6C3259F30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57D82-9532-409F-8F2A-CCB785017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D7DE4-C673-46C8-9034-6CFC5E6D8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5A635-35DF-4F64-B076-377BC2F48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78AFA-5615-44FE-82E6-ADBC035AA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21E94-D2AA-4B77-AD81-A0C9EE42A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1FA28-CDDE-4444-93BA-2AA31F3AA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C94FD-CB52-425C-90D4-B840C2C73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ED179-1EC0-4656-9F6E-A2CC4B396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25E6-C07D-44EC-8D2C-54DBCF180D1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Oval 11"/>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Oval 12"/>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Oval 13"/>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Oval 14"/>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Oval 15"/>
            <p:cNvSpPr/>
            <p:nvPr/>
          </p:nvSpPr>
          <p:spPr>
            <a:xfrm>
              <a:off x="8657280" y="320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Oval 17"/>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Oval 18"/>
            <p:cNvSpPr/>
            <p:nvPr/>
          </p:nvSpPr>
          <p:spPr>
            <a:xfrm>
              <a:off x="848916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865728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8825400" y="488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832104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848916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8657280" y="65592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8153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Oval 26"/>
            <p:cNvSpPr/>
            <p:nvPr/>
          </p:nvSpPr>
          <p:spPr>
            <a:xfrm>
              <a:off x="832104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Oval 27"/>
            <p:cNvSpPr/>
            <p:nvPr/>
          </p:nvSpPr>
          <p:spPr>
            <a:xfrm>
              <a:off x="848916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Oval 28"/>
            <p:cNvSpPr/>
            <p:nvPr/>
          </p:nvSpPr>
          <p:spPr>
            <a:xfrm>
              <a:off x="865728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Oval 29"/>
            <p:cNvSpPr/>
            <p:nvPr/>
          </p:nvSpPr>
          <p:spPr>
            <a:xfrm>
              <a:off x="8825400" y="82404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Oval 30"/>
            <p:cNvSpPr/>
            <p:nvPr/>
          </p:nvSpPr>
          <p:spPr>
            <a:xfrm>
              <a:off x="815328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Oval 31"/>
            <p:cNvSpPr/>
            <p:nvPr/>
          </p:nvSpPr>
          <p:spPr>
            <a:xfrm>
              <a:off x="832104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Oval 32"/>
            <p:cNvSpPr/>
            <p:nvPr/>
          </p:nvSpPr>
          <p:spPr>
            <a:xfrm>
              <a:off x="848916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Oval 33"/>
            <p:cNvSpPr/>
            <p:nvPr/>
          </p:nvSpPr>
          <p:spPr>
            <a:xfrm>
              <a:off x="8657280" y="99216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Oval 34"/>
            <p:cNvSpPr/>
            <p:nvPr/>
          </p:nvSpPr>
          <p:spPr>
            <a:xfrm>
              <a:off x="815328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832104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848916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865728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832104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865728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10"/>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11"/>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12"/>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13"/>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14"/>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15"/>
            <p:cNvSpPr/>
            <p:nvPr/>
          </p:nvSpPr>
          <p:spPr>
            <a:xfrm>
              <a:off x="8345160" y="327672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16"/>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17"/>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18"/>
            <p:cNvSpPr/>
            <p:nvPr/>
          </p:nvSpPr>
          <p:spPr>
            <a:xfrm>
              <a:off x="806112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19"/>
            <p:cNvSpPr/>
            <p:nvPr/>
          </p:nvSpPr>
          <p:spPr>
            <a:xfrm>
              <a:off x="83451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20"/>
            <p:cNvSpPr/>
            <p:nvPr/>
          </p:nvSpPr>
          <p:spPr>
            <a:xfrm>
              <a:off x="862956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21"/>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22"/>
            <p:cNvSpPr/>
            <p:nvPr/>
          </p:nvSpPr>
          <p:spPr>
            <a:xfrm>
              <a:off x="777708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23"/>
            <p:cNvSpPr/>
            <p:nvPr/>
          </p:nvSpPr>
          <p:spPr>
            <a:xfrm>
              <a:off x="806112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24"/>
            <p:cNvSpPr/>
            <p:nvPr/>
          </p:nvSpPr>
          <p:spPr>
            <a:xfrm>
              <a:off x="8345160" y="3843360"/>
              <a:ext cx="201240" cy="20304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25"/>
            <p:cNvSpPr/>
            <p:nvPr/>
          </p:nvSpPr>
          <p:spPr>
            <a:xfrm>
              <a:off x="749304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26"/>
            <p:cNvSpPr/>
            <p:nvPr/>
          </p:nvSpPr>
          <p:spPr>
            <a:xfrm>
              <a:off x="777708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27"/>
            <p:cNvSpPr/>
            <p:nvPr/>
          </p:nvSpPr>
          <p:spPr>
            <a:xfrm>
              <a:off x="806112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28"/>
            <p:cNvSpPr/>
            <p:nvPr/>
          </p:nvSpPr>
          <p:spPr>
            <a:xfrm>
              <a:off x="834516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29"/>
            <p:cNvSpPr/>
            <p:nvPr/>
          </p:nvSpPr>
          <p:spPr>
            <a:xfrm>
              <a:off x="862956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30"/>
            <p:cNvSpPr/>
            <p:nvPr/>
          </p:nvSpPr>
          <p:spPr>
            <a:xfrm>
              <a:off x="749304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31"/>
            <p:cNvSpPr/>
            <p:nvPr/>
          </p:nvSpPr>
          <p:spPr>
            <a:xfrm>
              <a:off x="777708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32"/>
            <p:cNvSpPr/>
            <p:nvPr/>
          </p:nvSpPr>
          <p:spPr>
            <a:xfrm>
              <a:off x="806112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33"/>
            <p:cNvSpPr/>
            <p:nvPr/>
          </p:nvSpPr>
          <p:spPr>
            <a:xfrm>
              <a:off x="834516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34"/>
            <p:cNvSpPr/>
            <p:nvPr/>
          </p:nvSpPr>
          <p:spPr>
            <a:xfrm>
              <a:off x="749304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35"/>
            <p:cNvSpPr/>
            <p:nvPr/>
          </p:nvSpPr>
          <p:spPr>
            <a:xfrm>
              <a:off x="777708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36"/>
            <p:cNvSpPr/>
            <p:nvPr/>
          </p:nvSpPr>
          <p:spPr>
            <a:xfrm>
              <a:off x="806112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7"/>
            <p:cNvSpPr/>
            <p:nvPr/>
          </p:nvSpPr>
          <p:spPr>
            <a:xfrm>
              <a:off x="834516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8"/>
            <p:cNvSpPr/>
            <p:nvPr/>
          </p:nvSpPr>
          <p:spPr>
            <a:xfrm>
              <a:off x="777708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9"/>
            <p:cNvSpPr/>
            <p:nvPr/>
          </p:nvSpPr>
          <p:spPr>
            <a:xfrm>
              <a:off x="834516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7"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DC74-8C5A-4744-832F-F88A1D36BA2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eat Transfer</a:t>
            </a:r>
            <a:endParaRPr b="1" lang="en-US" sz="4800" spc="-1" strike="noStrike">
              <a:solidFill>
                <a:srgbClr val="ffffff"/>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 20,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ncorde supersonic airplane is 20 cm longer when in flight.  Explain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the jet flies, it experiences a huge amount of friction, which heats it up significantly.  This causes thermal expansion, and the plane lengthe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is temperature a measure of?</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average kinetic energy of the particl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you step out of a swimming pool on a hot, dry day, you feel quite chilly.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a gas give off or absorb energy when it turns into a soli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off energy, because it is going from high energy to low energ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arm-up</a:t>
            </a:r>
            <a:endParaRPr b="1" lang="en-US" sz="3900" spc="-1" strike="noStrike">
              <a:solidFill>
                <a:srgbClr val="ffffff"/>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rap a fur coat around a thermometer.  Will its temperature rise?  Explain why or why not.</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hold one end of a metal nail against a piece of ice, the end in your hand soon becomes cold.  Does cold flow from the ice to your hand?  Explai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y does blowing over hot soup cool the soup?</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ction cooling is a very effective method of heat transf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a still room, smoke will sometimes rise only so far, never reaching the ceiling.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Question</a:t>
            </a:r>
            <a:endParaRPr b="1" lang="en-US" sz="3900" spc="-1" strike="noStrike">
              <a:solidFill>
                <a:srgbClr val="ffffff"/>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a cool cup of water is floated inside of a pot of water that is already boiling, will the water in the cup ever boil?</a:t>
            </a:r>
            <a:endParaRPr b="0" lang="en-US" sz="3000" spc="-1" strike="noStrike">
              <a:solidFill>
                <a:srgbClr val="ffffff"/>
              </a:solidFill>
              <a:latin typeface="Arial"/>
            </a:endParaRPr>
          </a:p>
        </p:txBody>
      </p:sp>
      <p:sp>
        <p:nvSpPr>
          <p:cNvPr id="204" name="Rectangle 4"/>
          <p:cNvSpPr/>
          <p:nvPr/>
        </p:nvSpPr>
        <p:spPr>
          <a:xfrm>
            <a:off x="2133720" y="3886200"/>
            <a:ext cx="4190760" cy="1905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6"/>
          <p:cNvSpPr/>
          <p:nvPr/>
        </p:nvSpPr>
        <p:spPr>
          <a:xfrm>
            <a:off x="2133720" y="4267080"/>
            <a:ext cx="4190760" cy="1524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Rectangle 5"/>
          <p:cNvSpPr/>
          <p:nvPr/>
        </p:nvSpPr>
        <p:spPr>
          <a:xfrm>
            <a:off x="3733920" y="3809880"/>
            <a:ext cx="76176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7"/>
          <p:cNvSpPr/>
          <p:nvPr/>
        </p:nvSpPr>
        <p:spPr>
          <a:xfrm>
            <a:off x="2438280" y="5638680"/>
            <a:ext cx="15264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8"/>
          <p:cNvSpPr/>
          <p:nvPr/>
        </p:nvSpPr>
        <p:spPr>
          <a:xfrm>
            <a:off x="2819520" y="47242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9"/>
          <p:cNvSpPr/>
          <p:nvPr/>
        </p:nvSpPr>
        <p:spPr>
          <a:xfrm>
            <a:off x="3124080" y="50292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10"/>
          <p:cNvSpPr/>
          <p:nvPr/>
        </p:nvSpPr>
        <p:spPr>
          <a:xfrm>
            <a:off x="3048120" y="54100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11"/>
          <p:cNvSpPr/>
          <p:nvPr/>
        </p:nvSpPr>
        <p:spPr>
          <a:xfrm>
            <a:off x="327672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12"/>
          <p:cNvSpPr/>
          <p:nvPr/>
        </p:nvSpPr>
        <p:spPr>
          <a:xfrm>
            <a:off x="2438280" y="48769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13"/>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14"/>
          <p:cNvSpPr/>
          <p:nvPr/>
        </p:nvSpPr>
        <p:spPr>
          <a:xfrm>
            <a:off x="2590920" y="53341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15"/>
          <p:cNvSpPr/>
          <p:nvPr/>
        </p:nvSpPr>
        <p:spPr>
          <a:xfrm>
            <a:off x="4572000" y="48769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Oval 16"/>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val 17"/>
          <p:cNvSpPr/>
          <p:nvPr/>
        </p:nvSpPr>
        <p:spPr>
          <a:xfrm>
            <a:off x="4724280" y="52578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Oval 18"/>
          <p:cNvSpPr/>
          <p:nvPr/>
        </p:nvSpPr>
        <p:spPr>
          <a:xfrm>
            <a:off x="4724280" y="46483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Oval 19"/>
          <p:cNvSpPr/>
          <p:nvPr/>
        </p:nvSpPr>
        <p:spPr>
          <a:xfrm>
            <a:off x="457200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0"/>
          <p:cNvSpPr/>
          <p:nvPr/>
        </p:nvSpPr>
        <p:spPr>
          <a:xfrm>
            <a:off x="3733920" y="4343400"/>
            <a:ext cx="76176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r>
              <a:rPr b="1" lang="en-US" sz="3900" spc="-1" strike="noStrike">
                <a:solidFill>
                  <a:srgbClr val="ffffff"/>
                </a:solidFill>
                <a:latin typeface="Arial"/>
              </a:rPr>
              <a:t>	</a:t>
            </a:r>
            <a:r>
              <a:rPr b="1" lang="en-US" sz="3900" spc="-1" strike="noStrike">
                <a:solidFill>
                  <a:srgbClr val="ffffff"/>
                </a:solidFill>
                <a:latin typeface="Arial"/>
              </a:rPr>
              <a:t> </a:t>
            </a:r>
            <a:endParaRPr b="1" lang="en-US" sz="3900" spc="-1" strike="noStrike">
              <a:solidFill>
                <a:srgbClr val="ffffff"/>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cold does not flow.  Heat flows from your hand to the nail to the ice.  Since your hand is losing heat, it feels cold.  HEAT is the only thing that flow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lain why “firewalkers” can walk safely across a bed of red-hot coals in bare fee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0:06:33Z</dcterms:created>
  <dc:creator>MDS</dc:creator>
  <dc:description/>
  <dc:language>en-US</dc:language>
  <cp:lastModifiedBy>RomaK</cp:lastModifiedBy>
  <dcterms:modified xsi:type="dcterms:W3CDTF">2015-09-03T12:29:35Z</dcterms:modified>
  <cp:revision>10</cp:revision>
  <dc:subject/>
  <dc:title>Heat Transfer</dc:title>
</cp:coreProperties>
</file>